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664325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663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911160" y="765000"/>
            <a:ext cx="4903920" cy="367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0" rIns="90000" tIns="0" bIns="46800" anchor="ctr">
            <a:noAutofit/>
          </a:bodyPr>
          <a:p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hdr"/>
          </p:nvPr>
        </p:nvSpPr>
        <p:spPr>
          <a:xfrm>
            <a:off x="-360" y="0"/>
            <a:ext cx="2901960" cy="458640"/>
          </a:xfrm>
          <a:prstGeom prst="rect">
            <a:avLst/>
          </a:prstGeom>
          <a:noFill/>
          <a:ln w="0">
            <a:noFill/>
          </a:ln>
        </p:spPr>
        <p:txBody>
          <a:bodyPr lIns="181800" rIns="181800" tIns="0" anchor="ctr">
            <a:noAutofit/>
          </a:bodyPr>
          <a:p>
            <a:pPr indent="0">
              <a:lnSpc>
                <a:spcPts val="2412"/>
              </a:lnSpc>
              <a:spcAft>
                <a:spcPts val="201"/>
              </a:spcAft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1"/>
          </p:nvPr>
        </p:nvSpPr>
        <p:spPr>
          <a:xfrm>
            <a:off x="3738600" y="0"/>
            <a:ext cx="2905200" cy="458640"/>
          </a:xfrm>
          <a:prstGeom prst="rect">
            <a:avLst/>
          </a:prstGeom>
          <a:noFill/>
          <a:ln w="0">
            <a:noFill/>
          </a:ln>
        </p:spPr>
        <p:txBody>
          <a:bodyPr lIns="181800" rIns="181800" tIns="0" anchor="ctr">
            <a:noAutofit/>
          </a:bodyPr>
          <a:lstStyle>
            <a:lvl1pPr indent="0" algn="r">
              <a:lnSpc>
                <a:spcPts val="2412"/>
              </a:lnSpc>
              <a:spcAft>
                <a:spcPts val="201"/>
              </a:spcAft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ts val="2412"/>
              </a:lnSpc>
              <a:spcAft>
                <a:spcPts val="201"/>
              </a:spcAft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915840" y="4673160"/>
            <a:ext cx="4888080" cy="444204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2"/>
          </p:nvPr>
        </p:nvSpPr>
        <p:spPr>
          <a:xfrm>
            <a:off x="-360" y="9343800"/>
            <a:ext cx="2901960" cy="538200"/>
          </a:xfrm>
          <a:prstGeom prst="rect">
            <a:avLst/>
          </a:prstGeom>
          <a:noFill/>
          <a:ln w="0">
            <a:noFill/>
          </a:ln>
        </p:spPr>
        <p:txBody>
          <a:bodyPr lIns="181800" rIns="181800" tIns="0" anchor="ctr">
            <a:noAutofit/>
          </a:bodyPr>
          <a:lstStyle>
            <a:lvl1pPr indent="0">
              <a:lnSpc>
                <a:spcPts val="2412"/>
              </a:lnSpc>
              <a:spcAft>
                <a:spcPts val="201"/>
              </a:spcAft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ts val="2412"/>
              </a:lnSpc>
              <a:spcAft>
                <a:spcPts val="201"/>
              </a:spcAft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3"/>
          </p:nvPr>
        </p:nvSpPr>
        <p:spPr>
          <a:xfrm>
            <a:off x="3738600" y="9343800"/>
            <a:ext cx="2905200" cy="538200"/>
          </a:xfrm>
          <a:prstGeom prst="rect">
            <a:avLst/>
          </a:prstGeom>
          <a:noFill/>
          <a:ln w="0">
            <a:noFill/>
          </a:ln>
        </p:spPr>
        <p:txBody>
          <a:bodyPr lIns="181800" rIns="181800" tIns="0" anchor="ctr">
            <a:noAutofit/>
          </a:bodyPr>
          <a:lstStyle>
            <a:lvl1pPr indent="0" algn="r">
              <a:lnSpc>
                <a:spcPts val="2412"/>
              </a:lnSpc>
              <a:spcAft>
                <a:spcPts val="201"/>
              </a:spcAft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ts val="2412"/>
              </a:lnSpc>
              <a:spcAft>
                <a:spcPts val="201"/>
              </a:spcAft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3749B666-0EA4-42A9-81BC-DF71B492655C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738600" y="9343800"/>
            <a:ext cx="2905200" cy="538200"/>
          </a:xfrm>
          <a:prstGeom prst="rect">
            <a:avLst/>
          </a:prstGeom>
          <a:noFill/>
          <a:ln w="0">
            <a:noFill/>
          </a:ln>
        </p:spPr>
        <p:txBody>
          <a:bodyPr lIns="181800" rIns="181800" tIns="0" anchor="ctr">
            <a:noAutofit/>
          </a:bodyPr>
          <a:p>
            <a:pPr algn="r">
              <a:lnSpc>
                <a:spcPts val="2412"/>
              </a:lnSpc>
              <a:spcAft>
                <a:spcPts val="201"/>
              </a:spcAft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9FB8A34A-C622-465D-B545-1BABA82D7BC8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-360" y="9343800"/>
            <a:ext cx="2901960" cy="538200"/>
          </a:xfrm>
          <a:prstGeom prst="rect">
            <a:avLst/>
          </a:prstGeom>
          <a:noFill/>
          <a:ln w="0">
            <a:noFill/>
          </a:ln>
        </p:spPr>
        <p:txBody>
          <a:bodyPr lIns="181800" rIns="181800" tIns="0" anchor="ctr">
            <a:noAutofit/>
          </a:bodyPr>
          <a:p>
            <a:pPr>
              <a:lnSpc>
                <a:spcPts val="2412"/>
              </a:lnSpc>
              <a:spcAft>
                <a:spcPts val="201"/>
              </a:spcAft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-360" y="0"/>
            <a:ext cx="2901960" cy="458640"/>
          </a:xfrm>
          <a:prstGeom prst="rect">
            <a:avLst/>
          </a:prstGeom>
          <a:noFill/>
          <a:ln w="0">
            <a:noFill/>
          </a:ln>
        </p:spPr>
        <p:txBody>
          <a:bodyPr lIns="181800" rIns="181800" tIns="0" anchor="ctr">
            <a:noAutofit/>
          </a:bodyPr>
          <a:p>
            <a:pPr>
              <a:lnSpc>
                <a:spcPts val="2412"/>
              </a:lnSpc>
              <a:spcAft>
                <a:spcPts val="201"/>
              </a:spcAft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738600" y="0"/>
            <a:ext cx="2905200" cy="458640"/>
          </a:xfrm>
          <a:prstGeom prst="rect">
            <a:avLst/>
          </a:prstGeom>
          <a:noFill/>
          <a:ln w="0">
            <a:noFill/>
          </a:ln>
        </p:spPr>
        <p:txBody>
          <a:bodyPr lIns="181800" rIns="181800" tIns="0" anchor="ctr">
            <a:noAutofit/>
          </a:bodyPr>
          <a:p>
            <a:pPr algn="r">
              <a:lnSpc>
                <a:spcPts val="2412"/>
              </a:lnSpc>
              <a:spcAft>
                <a:spcPts val="201"/>
              </a:spcAft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874800" y="74628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365040" y="4540320"/>
            <a:ext cx="5927760" cy="48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738600" y="9343800"/>
            <a:ext cx="2905200" cy="538200"/>
          </a:xfrm>
          <a:prstGeom prst="rect">
            <a:avLst/>
          </a:prstGeom>
          <a:noFill/>
          <a:ln w="0">
            <a:noFill/>
          </a:ln>
        </p:spPr>
        <p:txBody>
          <a:bodyPr lIns="181800" rIns="181800" tIns="0" anchor="ctr">
            <a:noAutofit/>
          </a:bodyPr>
          <a:p>
            <a:pPr algn="r">
              <a:lnSpc>
                <a:spcPts val="2412"/>
              </a:lnSpc>
              <a:spcAft>
                <a:spcPts val="201"/>
              </a:spcAft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5AAB9404-AD60-4C6D-8F4B-150927D435CB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-360" y="9343800"/>
            <a:ext cx="2901960" cy="538200"/>
          </a:xfrm>
          <a:prstGeom prst="rect">
            <a:avLst/>
          </a:prstGeom>
          <a:noFill/>
          <a:ln w="0">
            <a:noFill/>
          </a:ln>
        </p:spPr>
        <p:txBody>
          <a:bodyPr lIns="181800" rIns="181800" tIns="0" anchor="ctr">
            <a:noAutofit/>
          </a:bodyPr>
          <a:p>
            <a:pPr>
              <a:lnSpc>
                <a:spcPts val="2412"/>
              </a:lnSpc>
              <a:spcAft>
                <a:spcPts val="201"/>
              </a:spcAft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-360" y="0"/>
            <a:ext cx="2901960" cy="458640"/>
          </a:xfrm>
          <a:prstGeom prst="rect">
            <a:avLst/>
          </a:prstGeom>
          <a:noFill/>
          <a:ln w="0">
            <a:noFill/>
          </a:ln>
        </p:spPr>
        <p:txBody>
          <a:bodyPr lIns="181800" rIns="181800" tIns="0" anchor="ctr">
            <a:noAutofit/>
          </a:bodyPr>
          <a:p>
            <a:pPr>
              <a:lnSpc>
                <a:spcPts val="2412"/>
              </a:lnSpc>
              <a:spcAft>
                <a:spcPts val="201"/>
              </a:spcAft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738600" y="0"/>
            <a:ext cx="2905200" cy="458640"/>
          </a:xfrm>
          <a:prstGeom prst="rect">
            <a:avLst/>
          </a:prstGeom>
          <a:noFill/>
          <a:ln w="0">
            <a:noFill/>
          </a:ln>
        </p:spPr>
        <p:txBody>
          <a:bodyPr lIns="181800" rIns="181800" tIns="0" anchor="ctr">
            <a:noAutofit/>
          </a:bodyPr>
          <a:p>
            <a:pPr algn="r">
              <a:lnSpc>
                <a:spcPts val="2412"/>
              </a:lnSpc>
              <a:spcAft>
                <a:spcPts val="201"/>
              </a:spcAft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874800" y="74628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365040" y="4540320"/>
            <a:ext cx="5927760" cy="48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3"/>
          <a:stretch/>
        </p:blipFill>
        <p:spPr>
          <a:xfrm>
            <a:off x="7391520" y="0"/>
            <a:ext cx="1752480" cy="99072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2828880" y="2693880"/>
            <a:ext cx="41400" cy="3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96840" y="1996920"/>
            <a:ext cx="8994600" cy="43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713040" y="3038400"/>
            <a:ext cx="148932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3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abab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6553080"/>
            <a:ext cx="7391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3600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Product Status Report Neo, October, 24th,  2003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Page </a:t>
            </a:r>
            <a:fld id="{4ABECCF3-D6D8-4E7C-BAC7-498584A0C111}" type="slidenum">
              <a:rPr b="0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722360" y="6519960"/>
            <a:ext cx="111960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dd3a07"/>
                </a:solidFill>
                <a:latin typeface="Arial"/>
              </a:rPr>
              <a:t>Confident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499"/>
              </a:spcBef>
              <a:buClr>
                <a:srgbClr val="336699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9360" indent="-262080">
              <a:lnSpc>
                <a:spcPts val="2200"/>
              </a:lnSpc>
              <a:spcAft>
                <a:spcPts val="400"/>
              </a:spcAft>
              <a:buClr>
                <a:srgbClr val="000000"/>
              </a:buClr>
              <a:buFont typeface="Arial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97000" indent="-239760">
              <a:lnSpc>
                <a:spcPts val="2200"/>
              </a:lnSpc>
              <a:spcAft>
                <a:spcPts val="400"/>
              </a:spcAft>
              <a:buClr>
                <a:srgbClr val="002b5d"/>
              </a:buClr>
              <a:buFont typeface="Arial"/>
              <a:buChar char="•"/>
              <a:tabLst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600" spc="-1" strike="noStrike">
                <a:solidFill>
                  <a:srgbClr val="002b5d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2b5d"/>
              </a:solidFill>
              <a:latin typeface="Arial"/>
            </a:endParaRPr>
          </a:p>
          <a:p>
            <a:pPr lvl="3" marL="1676520" indent="-239760">
              <a:lnSpc>
                <a:spcPts val="2200"/>
              </a:lnSpc>
              <a:spcAft>
                <a:spcPts val="400"/>
              </a:spcAft>
              <a:buClr>
                <a:srgbClr val="002b5d"/>
              </a:buClr>
              <a:buFont typeface="Arial"/>
              <a:buChar char="–"/>
              <a:tabLst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600" spc="-1" strike="noStrike">
                <a:solidFill>
                  <a:srgbClr val="002b5d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2b5d"/>
              </a:solidFill>
              <a:latin typeface="Arial"/>
            </a:endParaRPr>
          </a:p>
          <a:p>
            <a:pPr lvl="4" marL="2155680" indent="-239400">
              <a:lnSpc>
                <a:spcPts val="2200"/>
              </a:lnSpc>
              <a:spcAft>
                <a:spcPts val="400"/>
              </a:spcAft>
              <a:buClr>
                <a:srgbClr val="002b5d"/>
              </a:buClr>
              <a:buFont typeface="Arial"/>
              <a:buChar char="»"/>
              <a:tabLst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600" spc="-1" strike="noStrike">
                <a:solidFill>
                  <a:srgbClr val="002b5d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2b5d"/>
              </a:solidFill>
              <a:latin typeface="Arial"/>
            </a:endParaRPr>
          </a:p>
          <a:p>
            <a:pPr lvl="5" marL="2155680" indent="-2394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b5d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2b5d"/>
              </a:solidFill>
              <a:latin typeface="Arial"/>
            </a:endParaRPr>
          </a:p>
          <a:p>
            <a:pPr lvl="6" marL="2155680" indent="-2394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b5d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2b5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3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5657760" y="1146240"/>
            <a:ext cx="3200400" cy="9903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2819520"/>
            <a:ext cx="563868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609480" y="2971800"/>
            <a:ext cx="6324840" cy="971640"/>
          </a:xfrm>
          <a:prstGeom prst="rect">
            <a:avLst/>
          </a:prstGeom>
        </p:spPr>
        <p:txBody>
          <a:bodyPr wrap="none" lIns="0" rIns="90000" tIns="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Management Summary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4" name=""/>
          <p:cNvSpPr/>
          <p:nvPr/>
        </p:nvSpPr>
        <p:spPr>
          <a:xfrm>
            <a:off x="560520" y="4254480"/>
            <a:ext cx="426024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e: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.11.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ilestone: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-PM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J. Schmit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M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.-J.Frey, H-M. Mues-Ha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L-T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. Köhler, H. Bössl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M-BA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. Ke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M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. Hirs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48720" y="1371600"/>
            <a:ext cx="609480" cy="1371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001000" y="1905120"/>
            <a:ext cx="304920" cy="304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8001000" y="1905120"/>
            <a:ext cx="304920" cy="304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001000" y="1447920"/>
            <a:ext cx="304920" cy="3045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001000" y="2362320"/>
            <a:ext cx="304920" cy="304560"/>
          </a:xfrm>
          <a:prstGeom prst="ellipse">
            <a:avLst/>
          </a:prstGeom>
          <a:solidFill>
            <a:srgbClr val="0ac90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68280" y="25560"/>
            <a:ext cx="69213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duct Status Report Neo</a:t>
            </a:r>
            <a:br>
              <a:rPr sz="28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”The premium messaging device for successful and demanding professionals”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533520" y="1244520"/>
            <a:ext cx="3504960" cy="1041480"/>
          </a:xfrm>
          <a:prstGeom prst="roundRect">
            <a:avLst>
              <a:gd name="adj" fmla="val 6097"/>
            </a:avLst>
          </a:prstGeom>
          <a:solidFill>
            <a:srgbClr val="cad9f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95440" y="1255680"/>
            <a:ext cx="336708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542880"/>
                <a:tab algn="l" pos="666720"/>
                <a:tab algn="l" pos="1612800"/>
                <a:tab algn="l" pos="260352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Position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42880"/>
                <a:tab algn="l" pos="666720"/>
                <a:tab algn="l" pos="1612800"/>
                <a:tab algn="l" pos="260352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Business/Reference-Class: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X-cla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42880"/>
                <a:tab algn="l" pos="666720"/>
                <a:tab algn="l" pos="1612800"/>
                <a:tab algn="l" pos="260352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400" spc="-1" strike="noStrike" u="sng">
                <a:solidFill>
                  <a:srgbClr val="000000"/>
                </a:solidFill>
                <a:uFillTx/>
                <a:latin typeface="Arial"/>
              </a:rPr>
              <a:t>Target Group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:     Cosmopolitan Net work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42880"/>
                <a:tab algn="l" pos="666720"/>
                <a:tab algn="l" pos="1612800"/>
                <a:tab algn="l" pos="260352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le &gt;&gt; Female, 25-40 years, high income,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professional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&amp; private u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533520" y="4719600"/>
            <a:ext cx="6642000" cy="1757520"/>
            <a:chOff x="533520" y="4719600"/>
            <a:chExt cx="6642000" cy="1757520"/>
          </a:xfrm>
        </p:grpSpPr>
        <p:sp>
          <p:nvSpPr>
            <p:cNvPr id="214" name=""/>
            <p:cNvSpPr/>
            <p:nvPr/>
          </p:nvSpPr>
          <p:spPr>
            <a:xfrm>
              <a:off x="533520" y="5004000"/>
              <a:ext cx="6642000" cy="1473120"/>
            </a:xfrm>
            <a:prstGeom prst="roundRect">
              <a:avLst>
                <a:gd name="adj" fmla="val 5282"/>
              </a:avLst>
            </a:prstGeom>
            <a:solidFill>
              <a:srgbClr val="cad9f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08040" y="5069160"/>
              <a:ext cx="3362400" cy="13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224"/>
                </a:spcBef>
                <a:buClr>
                  <a:srgbClr val="336699"/>
                </a:buClr>
                <a:buFont typeface="Wingdings" charset="2"/>
                <a:buChar char=""/>
                <a:tabLst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206960" y="5069160"/>
              <a:ext cx="2441520" cy="13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275"/>
                </a:spcBef>
                <a:buClr>
                  <a:srgbClr val="336699"/>
                </a:buClr>
                <a:buFont typeface="Wingdings" charset="2"/>
                <a:buChar char=""/>
                <a:tabLst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108680" y="5004000"/>
              <a:ext cx="0" cy="1473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08040" y="4719600"/>
              <a:ext cx="183672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596880" y="5046840"/>
            <a:ext cx="7121520" cy="609480"/>
            <a:chOff x="596880" y="5046840"/>
            <a:chExt cx="7121520" cy="609480"/>
          </a:xfrm>
        </p:grpSpPr>
        <p:sp>
          <p:nvSpPr>
            <p:cNvPr id="220" name=""/>
            <p:cNvSpPr/>
            <p:nvPr/>
          </p:nvSpPr>
          <p:spPr>
            <a:xfrm>
              <a:off x="596880" y="5046840"/>
              <a:ext cx="35272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Differentiation to MP products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85840" indent="-285840">
                <a:lnSpc>
                  <a:spcPct val="100000"/>
                </a:lnSpc>
                <a:buClr>
                  <a:srgbClr val="336699"/>
                </a:buClr>
                <a:buFont typeface="Wingdings" charset="2"/>
                <a:buChar char=""/>
                <a:tabLst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Arial"/>
                </a:rPr>
                <a:t>Product / design concept (messaging device)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191120" y="5046840"/>
              <a:ext cx="35272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Differentiation to Competition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85840" indent="-285840">
                <a:lnSpc>
                  <a:spcPct val="100000"/>
                </a:lnSpc>
                <a:buClr>
                  <a:srgbClr val="336699"/>
                </a:buClr>
                <a:buFont typeface="Wingdings" charset="2"/>
                <a:buChar char=""/>
                <a:tabLst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Arial"/>
                </a:rPr>
                <a:t>Product / design concept </a:t>
              </a:r>
              <a:br>
                <a:rPr sz="1300"/>
              </a:br>
              <a:r>
                <a:rPr b="0" lang="en-GB" sz="1300" spc="-1" strike="noStrike">
                  <a:solidFill>
                    <a:srgbClr val="000000"/>
                  </a:solidFill>
                  <a:latin typeface="Arial"/>
                </a:rPr>
                <a:t>(messaging device)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4114800" y="1244520"/>
            <a:ext cx="3443400" cy="1041480"/>
            <a:chOff x="4114800" y="1244520"/>
            <a:chExt cx="3443400" cy="1041480"/>
          </a:xfrm>
        </p:grpSpPr>
        <p:sp>
          <p:nvSpPr>
            <p:cNvPr id="223" name=""/>
            <p:cNvSpPr/>
            <p:nvPr/>
          </p:nvSpPr>
          <p:spPr>
            <a:xfrm>
              <a:off x="4114800" y="1244520"/>
              <a:ext cx="3048120" cy="1041480"/>
            </a:xfrm>
            <a:prstGeom prst="roundRect">
              <a:avLst>
                <a:gd name="adj" fmla="val 6097"/>
              </a:avLst>
            </a:prstGeom>
            <a:solidFill>
              <a:srgbClr val="cad9f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191120" y="1295640"/>
              <a:ext cx="3367080" cy="85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usiness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M3 xx, LC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x month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Volume over LC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1.7 Mio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EBIT p.u. Target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xx%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5" name=""/>
          <p:cNvSpPr/>
          <p:nvPr/>
        </p:nvSpPr>
        <p:spPr>
          <a:xfrm>
            <a:off x="4114800" y="2414520"/>
            <a:ext cx="3051000" cy="1230480"/>
          </a:xfrm>
          <a:prstGeom prst="roundRect">
            <a:avLst>
              <a:gd name="adj" fmla="val 4731"/>
            </a:avLst>
          </a:prstGeom>
          <a:solidFill>
            <a:srgbClr val="cad9f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114800" y="3645000"/>
            <a:ext cx="3051000" cy="1230120"/>
          </a:xfrm>
          <a:prstGeom prst="roundRect">
            <a:avLst>
              <a:gd name="adj" fmla="val 4731"/>
            </a:avLst>
          </a:prstGeom>
          <a:solidFill>
            <a:srgbClr val="cad9f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33520" y="2414520"/>
            <a:ext cx="3708360" cy="2449440"/>
          </a:xfrm>
          <a:custGeom>
            <a:avLst/>
            <a:gdLst>
              <a:gd name="textAreaLeft" fmla="*/ 0 w 3708360"/>
              <a:gd name="textAreaRight" fmla="*/ 3708720 w 3708360"/>
              <a:gd name="textAreaTop" fmla="*/ 0 h 2449440"/>
              <a:gd name="textAreaBottom" fmla="*/ 2449440 h 2449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279" y="0"/>
                </a:lnTo>
                <a:lnTo>
                  <a:pt x="21600" y="10800"/>
                </a:lnTo>
                <a:lnTo>
                  <a:pt x="1927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ad9f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267080" y="2414520"/>
            <a:ext cx="2819520" cy="10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85840" indent="-2858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Key end user benefit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336699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Innovative &amp; elegant design combining functionality and aesthetic in a surprising wa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336699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Fast &amp; easy text inpu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96880" y="2428920"/>
            <a:ext cx="3213000" cy="11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Arial"/>
              </a:rPr>
              <a:t>Key characteristics: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6699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QWERTY Keypa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Arial"/>
              </a:rPr>
              <a:t>Key characteristics: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6699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nique messaging device offering an innovative design merging phone &amp; keyp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267080" y="3648240"/>
            <a:ext cx="2743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Key operator benefit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336699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Full range of messaging services (SMS, MMS, e-mail, IM, PTT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04920" y="0"/>
            <a:ext cx="73911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08000" tIns="3600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Product Profile Neo </a:t>
            </a:r>
            <a:br>
              <a:rPr sz="2800"/>
            </a:b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”The premium messaging device for successful and demanding professionals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7585200" y="2365200"/>
            <a:ext cx="1393560" cy="26434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54160" y="-36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Feature comparison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Penelope platform    versus   Series 60 platform ( 2.0 / 1.2 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886200" y="1117440"/>
            <a:ext cx="2795760" cy="39117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68a4c0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6320" y="1104840"/>
            <a:ext cx="3504960" cy="38988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68a4c0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6320" y="1098720"/>
            <a:ext cx="3849480" cy="51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Aft>
                <a:spcPts val="4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Arial"/>
              </a:rPr>
              <a:t>Penelop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88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88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ava: MIDP 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88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DRM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(OMA Standard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88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MS: Release 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88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88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fi-FI" sz="1400" spc="-1" strike="noStrike">
                <a:solidFill>
                  <a:srgbClr val="000000"/>
                </a:solidFill>
                <a:latin typeface="Arial"/>
              </a:rPr>
              <a:t>Photo album, </a:t>
            </a:r>
            <a:br>
              <a:rPr sz="1400"/>
            </a:br>
            <a:r>
              <a:rPr b="0" i="1" lang="fi-FI" sz="1400" spc="-1" strike="noStrike">
                <a:solidFill>
                  <a:srgbClr val="000000"/>
                </a:solidFill>
                <a:latin typeface="Arial"/>
              </a:rPr>
              <a:t>  photo editor, </a:t>
            </a:r>
            <a:br>
              <a:rPr sz="1400"/>
            </a:br>
            <a:r>
              <a:rPr b="0" i="1" lang="fi-FI" sz="1400" spc="-1" strike="noStrike">
                <a:solidFill>
                  <a:srgbClr val="000000"/>
                </a:solidFill>
                <a:latin typeface="Arial"/>
              </a:rPr>
              <a:t> Video playe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88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88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AP 2.0 Dual sta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88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yncML 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88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PDP contex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88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88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rabic and Hebre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88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UI custom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900600" y="5157720"/>
            <a:ext cx="5091120" cy="12956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68a4c0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016880" y="5415120"/>
            <a:ext cx="1629720" cy="89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WERTY suppo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-G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Pixel came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9” display 256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6320" y="5157720"/>
            <a:ext cx="3504960" cy="12956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68a4c0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92600" y="5427720"/>
            <a:ext cx="1629720" cy="89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WERTY suppo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Pixel came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05” Penelop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display 64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71360" y="5110200"/>
            <a:ext cx="236772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Arial"/>
              </a:rPr>
              <a:t>Product highlight feature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939840" y="5135400"/>
            <a:ext cx="236772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Arial"/>
              </a:rPr>
              <a:t>Product highlight feature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638440" y="1600200"/>
            <a:ext cx="942480" cy="6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eb120d"/>
                </a:solidFill>
                <a:latin typeface="Arial"/>
              </a:rPr>
              <a:t>Support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eb12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eb120d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eb120d"/>
                </a:solidFill>
                <a:latin typeface="Arial"/>
              </a:rPr>
              <a:t>RC-MM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eb12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eb120d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eb120d"/>
                </a:solidFill>
                <a:latin typeface="Arial"/>
              </a:rPr>
              <a:t>Rel 9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921120" y="1111320"/>
            <a:ext cx="2608200" cy="51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Aft>
                <a:spcPts val="4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Arial"/>
              </a:rPr>
              <a:t>Series 60 2.0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88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ymbian OS 7.0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88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ava: MIDP 2.0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88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DRM 1S (improve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88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MS: SMIL enhancem.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 and edi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88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MF (Multimedia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         Framework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88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edia </a:t>
            </a:r>
            <a:r>
              <a:rPr b="0" i="1" lang="fi-FI" sz="1400" spc="-1" strike="noStrike">
                <a:solidFill>
                  <a:srgbClr val="000000"/>
                </a:solidFill>
                <a:latin typeface="Arial"/>
              </a:rPr>
              <a:t>player and </a:t>
            </a:r>
            <a:br>
              <a:rPr sz="1400"/>
            </a:br>
            <a:r>
              <a:rPr b="0" i="1" lang="fi-FI" sz="1400" spc="-1" strike="noStrike">
                <a:solidFill>
                  <a:srgbClr val="000000"/>
                </a:solidFill>
                <a:latin typeface="Arial"/>
              </a:rPr>
              <a:t>  Media galle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88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AP 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88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yncML 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88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PDP contex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 (email push and PT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88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rabic and Hebre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88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UI customization (skinning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88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allet 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666560" y="5181480"/>
            <a:ext cx="1098000" cy="6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eb120d"/>
                </a:solidFill>
                <a:latin typeface="Arial"/>
              </a:rPr>
              <a:t>No support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eb12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eb120d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eb120d"/>
                </a:solidFill>
                <a:latin typeface="Arial"/>
              </a:rPr>
              <a:t>IPv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eb12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eb120d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eb120d"/>
                </a:solidFill>
                <a:latin typeface="Arial"/>
              </a:rPr>
              <a:t>Rel 9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512080" y="5181480"/>
            <a:ext cx="1111680" cy="13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eb120d"/>
                </a:solidFill>
                <a:latin typeface="Arial"/>
              </a:rPr>
              <a:t>No support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eb12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eb120d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eb120d"/>
                </a:solidFill>
                <a:latin typeface="Arial"/>
              </a:rPr>
              <a:t>IPv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eb12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eb120d"/>
                </a:solidFill>
                <a:latin typeface="Arial"/>
              </a:rPr>
              <a:t>Under eval.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eb12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eb120d"/>
                </a:solidFill>
                <a:latin typeface="Arial"/>
              </a:rPr>
              <a:t>A-G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781680" y="1130400"/>
            <a:ext cx="2210040" cy="38988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68a4c0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858000" y="1123920"/>
            <a:ext cx="2209680" cy="30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Aft>
                <a:spcPts val="4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Arial"/>
              </a:rPr>
              <a:t>Series 60 1.2 feature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88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ymbian OS 6.1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88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ava: MIDP 1.0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88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DRM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(mandatory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         forward lock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88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88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edia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88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edia </a:t>
            </a:r>
            <a:r>
              <a:rPr b="0" i="1" lang="fi-FI" sz="1400" spc="-1" strike="noStrike">
                <a:solidFill>
                  <a:srgbClr val="000000"/>
                </a:solidFill>
                <a:latin typeface="Arial"/>
              </a:rPr>
              <a:t>player and </a:t>
            </a:r>
            <a:br>
              <a:rPr sz="1400"/>
            </a:br>
            <a:r>
              <a:rPr b="0" i="1" lang="fi-FI" sz="1400" spc="-1" strike="noStrike">
                <a:solidFill>
                  <a:srgbClr val="000000"/>
                </a:solidFill>
                <a:latin typeface="Arial"/>
              </a:rPr>
              <a:t>  photo alb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88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88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AP 1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88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yncML 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91960" y="20268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Neo based on Series 60 / Penelope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254160" y="1219320"/>
          <a:ext cx="8432640" cy="5102280"/>
        </p:xfrm>
        <a:graphic>
          <a:graphicData uri="http://schemas.openxmlformats.org/drawingml/2006/table">
            <a:tbl>
              <a:tblPr/>
              <a:tblGrid>
                <a:gridCol w="1879560"/>
                <a:gridCol w="2361960"/>
                <a:gridCol w="2362320"/>
                <a:gridCol w="1828800"/>
              </a:tblGrid>
              <a:tr h="710280">
                <a:tc>
                  <a:txBody>
                    <a:bodyPr lIns="0" rIns="9000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68a4c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9000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o with Series 60 2.0</a:t>
                      </a:r>
                      <a:br>
                        <a:rPr sz="1600"/>
                      </a:b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as planned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68a4c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9000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o with Series 60 1.2</a:t>
                      </a:r>
                      <a:br>
                        <a:rPr sz="1600"/>
                      </a:b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with OMAP33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68a4c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9000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nelop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68a4c0"/>
                        </a:gs>
                      </a:gsLst>
                      <a:lin ang="5400000"/>
                    </a:gradFill>
                  </a:tcPr>
                </a:tc>
              </a:tr>
              <a:tr h="791280">
                <a:tc>
                  <a:txBody>
                    <a:bodyPr lIns="0" rIns="9000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br>
                        <a:rPr sz="1400"/>
                      </a:b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no A-GP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0" bIns="46800" anchor="t">
                      <a:noAutofit/>
                    </a:bodyPr>
                    <a:p>
                      <a:pPr algn="ctr">
                        <a:lnSpc>
                          <a:spcPct val="4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br>
                        <a:rPr sz="1400"/>
                      </a:br>
                      <a:br>
                        <a:rPr sz="1400"/>
                      </a:br>
                      <a:br>
                        <a:rPr sz="1400"/>
                      </a:b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4 €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0" bIns="46800" anchor="t">
                      <a:noAutofit/>
                    </a:bodyPr>
                    <a:p>
                      <a:pPr algn="ctr">
                        <a:lnSpc>
                          <a:spcPct val="4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br>
                        <a:rPr sz="1400"/>
                      </a:b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4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4 €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br>
                        <a:rPr sz="1400"/>
                      </a:b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0 €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7280">
                <a:tc>
                  <a:txBody>
                    <a:bodyPr lIns="0" rIns="90000" tIns="0" bIns="468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cenc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0" bIns="46800" anchor="t">
                      <a:noAutofit/>
                    </a:bodyPr>
                    <a:p>
                      <a:pPr algn="ctr">
                        <a:lnSpc>
                          <a:spcPct val="4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4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,9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0" bIns="46800" anchor="t">
                      <a:noAutofit/>
                    </a:bodyPr>
                    <a:p>
                      <a:pPr algn="ctr">
                        <a:lnSpc>
                          <a:spcPct val="4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4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,9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0" bIns="46800" anchor="t">
                      <a:noAutofit/>
                    </a:bodyPr>
                    <a:p>
                      <a:pPr algn="ctr">
                        <a:lnSpc>
                          <a:spcPct val="4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4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9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3920">
                <a:tc>
                  <a:txBody>
                    <a:bodyPr lIns="0" rIns="9000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br>
                        <a:rPr sz="1400"/>
                      </a:b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&amp;D direct co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no A-GP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br>
                        <a:rPr sz="1400"/>
                      </a:b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,3 Mio €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br>
                        <a:rPr sz="1400"/>
                      </a:b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 Mio €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br>
                        <a:rPr sz="1400"/>
                      </a:b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6 Mio €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Without software platform cost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0800">
                <a:tc>
                  <a:txBody>
                    <a:bodyPr lIns="0" rIns="9000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br>
                        <a:rPr sz="1400"/>
                      </a:b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duct launc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br>
                        <a:rPr sz="1400"/>
                      </a:b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/20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br>
                        <a:rPr sz="1400"/>
                      </a:b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9/20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br>
                        <a:rPr sz="1400"/>
                      </a:b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/20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1640">
                <a:tc>
                  <a:txBody>
                    <a:bodyPr lIns="0" rIns="9000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br>
                        <a:rPr sz="1400"/>
                      </a:b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ature se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br>
                        <a:rPr sz="1400"/>
                      </a:b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br>
                        <a:rPr sz="1400"/>
                      </a:b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br>
                        <a:rPr sz="1400"/>
                      </a:b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7080">
                <a:tc>
                  <a:txBody>
                    <a:bodyPr lIns="0" rIns="9000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fidence level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om Project team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br>
                        <a:rPr sz="1400"/>
                      </a:b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br>
                        <a:rPr sz="1400"/>
                      </a:b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br>
                        <a:rPr sz="1400"/>
                      </a:b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44280" y="3699000"/>
            <a:ext cx="8780760" cy="583920"/>
          </a:xfrm>
          <a:prstGeom prst="rect">
            <a:avLst/>
          </a:prstGeom>
          <a:solidFill>
            <a:srgbClr val="004b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82680" y="0"/>
            <a:ext cx="73911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08000" tIns="3600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04840" y="171360"/>
            <a:ext cx="731664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Neo Financial Scenar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9840" y="5146560"/>
            <a:ext cx="8751960" cy="584280"/>
          </a:xfrm>
          <a:prstGeom prst="rect">
            <a:avLst/>
          </a:prstGeom>
          <a:solidFill>
            <a:srgbClr val="004b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9840" y="4402080"/>
            <a:ext cx="8751960" cy="584280"/>
          </a:xfrm>
          <a:prstGeom prst="rect">
            <a:avLst/>
          </a:prstGeom>
          <a:solidFill>
            <a:srgbClr val="004b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9840" y="3159000"/>
            <a:ext cx="8751960" cy="414360"/>
          </a:xfrm>
          <a:prstGeom prst="rect">
            <a:avLst/>
          </a:prstGeom>
          <a:solidFill>
            <a:srgbClr val="004b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840" y="2660760"/>
            <a:ext cx="8751960" cy="414360"/>
          </a:xfrm>
          <a:prstGeom prst="rect">
            <a:avLst/>
          </a:prstGeom>
          <a:solidFill>
            <a:srgbClr val="004b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9840" y="2114640"/>
            <a:ext cx="8751960" cy="414360"/>
          </a:xfrm>
          <a:prstGeom prst="rect">
            <a:avLst/>
          </a:prstGeom>
          <a:solidFill>
            <a:srgbClr val="004b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480" y="2060640"/>
            <a:ext cx="1365120" cy="369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hipm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Turno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A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HK estim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ross Marg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i="1" lang="en-GB" sz="1400" spc="-1" strike="noStrike">
                <a:solidFill>
                  <a:srgbClr val="ffffff"/>
                </a:solidFill>
                <a:latin typeface="Arial"/>
              </a:rPr>
              <a:t>% of T/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EB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i="1" lang="en-GB" sz="1400" spc="-1" strike="noStrike">
                <a:solidFill>
                  <a:srgbClr val="ffffff"/>
                </a:solidFill>
                <a:latin typeface="Arial"/>
              </a:rPr>
              <a:t>% of T/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154320" y="1781280"/>
            <a:ext cx="698400" cy="4246560"/>
          </a:xfrm>
          <a:prstGeom prst="rect">
            <a:avLst/>
          </a:prstGeom>
          <a:solidFill>
            <a:srgbClr val="68a4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04/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1’16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0’’3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270 €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208 €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0’’0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3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4’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583240" y="1773360"/>
            <a:ext cx="719280" cy="4246560"/>
          </a:xfrm>
          <a:prstGeom prst="rect">
            <a:avLst/>
          </a:prstGeom>
          <a:solidFill>
            <a:srgbClr val="68a4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04/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1’09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0’’28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258 €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208 €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0’’02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9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-12’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-5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81080" y="1044720"/>
            <a:ext cx="1079280" cy="6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>
              <a:lnSpc>
                <a:spcPts val="2398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2b5d"/>
                </a:solidFill>
                <a:latin typeface="Arial"/>
              </a:rPr>
              <a:t>M Units/ M Eu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925800" y="1781280"/>
            <a:ext cx="695520" cy="4246560"/>
          </a:xfrm>
          <a:prstGeom prst="rect">
            <a:avLst/>
          </a:prstGeom>
          <a:solidFill>
            <a:srgbClr val="68a4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05/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0’2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0’’04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224 €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208 €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0’’0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-4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-9’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-19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789440" y="1781280"/>
            <a:ext cx="720720" cy="4246560"/>
          </a:xfrm>
          <a:prstGeom prst="rect">
            <a:avLst/>
          </a:prstGeom>
          <a:solidFill>
            <a:srgbClr val="68a4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03/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0’12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0’’03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295 €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208 €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0’’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-68’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-185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8760" y="6246720"/>
            <a:ext cx="866304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>
              <a:lnSpc>
                <a:spcPts val="2398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2b5d"/>
                </a:solidFill>
                <a:latin typeface="Arial"/>
              </a:rPr>
              <a:t>*) For LC EBIT calculation 9‘2 €  direct and indirect R&amp;D efforts Neo in FY 02/03 are taken into account in all three scenar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333440" y="1801800"/>
            <a:ext cx="863640" cy="42465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03/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0’69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0’’22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319 €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179 €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0’’07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5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-6’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-3,1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252200" y="1773360"/>
            <a:ext cx="656280" cy="4246560"/>
          </a:xfrm>
          <a:prstGeom prst="rect">
            <a:avLst/>
          </a:prstGeom>
          <a:solidFill>
            <a:srgbClr val="68a4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04/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1’3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0’’34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254 €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170 €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0’’07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3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40’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0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69560" y="1773360"/>
            <a:ext cx="656280" cy="4246560"/>
          </a:xfrm>
          <a:prstGeom prst="rect">
            <a:avLst/>
          </a:prstGeom>
          <a:solidFill>
            <a:srgbClr val="68a4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03/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0’1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0’’02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290 €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170 €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0’’0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2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-18’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-65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445080" y="1053720"/>
            <a:ext cx="2232360" cy="656280"/>
          </a:xfrm>
          <a:prstGeom prst="rect">
            <a:avLst/>
          </a:prstGeom>
          <a:solidFill>
            <a:srgbClr val="68a4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ctr">
            <a:sp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2b5d"/>
                </a:solidFill>
                <a:latin typeface="Arial"/>
              </a:rPr>
              <a:t>Neo on Penelop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2b5d"/>
                </a:solidFill>
                <a:latin typeface="Arial"/>
              </a:rPr>
              <a:t>(09/04 – 12/0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762440" y="1052280"/>
            <a:ext cx="1540080" cy="656280"/>
          </a:xfrm>
          <a:prstGeom prst="rect">
            <a:avLst/>
          </a:prstGeom>
          <a:solidFill>
            <a:srgbClr val="68a4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ctr">
            <a:sp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2b5d"/>
                </a:solidFill>
                <a:latin typeface="Arial"/>
              </a:rPr>
              <a:t>Neo on SX1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2b5d"/>
                </a:solidFill>
                <a:latin typeface="Arial"/>
              </a:rPr>
              <a:t>(09/04 – 08/0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341440" y="1052280"/>
            <a:ext cx="2303640" cy="656280"/>
          </a:xfrm>
          <a:prstGeom prst="rect">
            <a:avLst/>
          </a:prstGeom>
          <a:solidFill>
            <a:srgbClr val="68a4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ctr">
            <a:sp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2b5d"/>
                </a:solidFill>
                <a:latin typeface="Arial"/>
              </a:rPr>
              <a:t>Neo as of tod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2b5d"/>
                </a:solidFill>
                <a:latin typeface="Arial"/>
              </a:rPr>
              <a:t>(01/05-12/0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3440" y="1052280"/>
            <a:ext cx="863640" cy="6562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ctr">
            <a:sp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2b5d"/>
                </a:solidFill>
                <a:latin typeface="Arial"/>
              </a:rPr>
              <a:t>Budg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2b5d"/>
                </a:solidFill>
                <a:latin typeface="Arial"/>
              </a:rPr>
              <a:t>IX/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789440" y="252360"/>
            <a:ext cx="182880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First / rough  estimation 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61080" y="189000"/>
            <a:ext cx="172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32280" y="907920"/>
            <a:ext cx="172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8004600" y="1773360"/>
            <a:ext cx="656280" cy="4246560"/>
          </a:xfrm>
          <a:prstGeom prst="rect">
            <a:avLst/>
          </a:prstGeom>
          <a:solidFill>
            <a:srgbClr val="68a4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05/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0’2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0’’05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220 €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170 €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0’’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1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-1’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-3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410200" y="1773360"/>
            <a:ext cx="656280" cy="4246560"/>
          </a:xfrm>
          <a:prstGeom prst="rect">
            <a:avLst/>
          </a:prstGeom>
          <a:solidFill>
            <a:srgbClr val="68a4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03/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0’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0’’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0 €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0 €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0’’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0,0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-89’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701800" y="5734080"/>
            <a:ext cx="1584360" cy="503280"/>
          </a:xfrm>
          <a:prstGeom prst="ellipse">
            <a:avLst/>
          </a:prstGeom>
          <a:solidFill>
            <a:srgbClr val="ffd1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2b5d"/>
                </a:solidFill>
                <a:latin typeface="Arial"/>
              </a:rPr>
              <a:t>-103‘4 €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718160" y="5734080"/>
            <a:ext cx="1584360" cy="503280"/>
          </a:xfrm>
          <a:prstGeom prst="ellipse">
            <a:avLst/>
          </a:prstGeom>
          <a:solidFill>
            <a:srgbClr val="ffd1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2b5d"/>
                </a:solidFill>
                <a:latin typeface="Arial"/>
              </a:rPr>
              <a:t>-90‘5 €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775560" y="5734080"/>
            <a:ext cx="1584360" cy="503280"/>
          </a:xfrm>
          <a:prstGeom prst="ellipse">
            <a:avLst/>
          </a:prstGeom>
          <a:solidFill>
            <a:srgbClr val="ffd1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2b5d"/>
                </a:solidFill>
                <a:latin typeface="Arial"/>
              </a:rPr>
              <a:t>10‘5 €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160" y="5727600"/>
            <a:ext cx="1047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2b5d"/>
                </a:solidFill>
                <a:latin typeface="Arial"/>
              </a:rPr>
              <a:t>LC EBIT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91960" y="20268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Neo decis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66760" y="1189080"/>
            <a:ext cx="6959520" cy="59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>
              <a:lnSpc>
                <a:spcPts val="2398"/>
              </a:lnSpc>
              <a:spcBef>
                <a:spcPts val="1500"/>
              </a:spcBef>
              <a:buClr>
                <a:srgbClr val="002b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2b5d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2b5d"/>
                </a:solidFill>
                <a:latin typeface="Arial"/>
              </a:rPr>
              <a:t>Based on the scenarios it was strongly recommended from Rea Team on the 3.11.03 to switch to the proprietary platform approa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ts val="2398"/>
              </a:lnSpc>
              <a:spcBef>
                <a:spcPts val="1500"/>
              </a:spcBef>
              <a:buClr>
                <a:srgbClr val="002b5d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2b5d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2b5d"/>
                </a:solidFill>
                <a:latin typeface="Arial"/>
              </a:rPr>
              <a:t>EBIT over L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ts val="2398"/>
              </a:lnSpc>
              <a:spcBef>
                <a:spcPts val="1500"/>
              </a:spcBef>
              <a:buClr>
                <a:srgbClr val="002b5d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2b5d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2b5d"/>
                </a:solidFill>
                <a:latin typeface="Arial"/>
              </a:rPr>
              <a:t>Rel99 and feature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ts val="2398"/>
              </a:lnSpc>
              <a:spcBef>
                <a:spcPts val="1500"/>
              </a:spcBef>
              <a:buClr>
                <a:srgbClr val="002b5d"/>
              </a:buClr>
              <a:buFont typeface="Wingding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2b5d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2b5d"/>
                </a:solidFill>
                <a:latin typeface="Arial"/>
              </a:rPr>
              <a:t>TTM (launch target 9/04 with 100k uni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ts val="2398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2b5d"/>
                </a:solidFill>
                <a:latin typeface="Wingdings"/>
                <a:ea typeface="Wingdings"/>
              </a:rPr>
              <a:t></a:t>
            </a:r>
            <a:r>
              <a:rPr b="0" lang="en-GB" sz="2400" spc="-1" strike="noStrike">
                <a:solidFill>
                  <a:srgbClr val="002b5d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2b5d"/>
                </a:solidFill>
                <a:latin typeface="Arial"/>
              </a:rPr>
              <a:t>complete rework of mechanics necess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ts val="2398"/>
              </a:lnSpc>
              <a:spcBef>
                <a:spcPts val="1500"/>
              </a:spcBef>
              <a:buClr>
                <a:srgbClr val="002b5d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2b5d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2b5d"/>
                </a:solidFill>
                <a:latin typeface="Arial"/>
              </a:rPr>
              <a:t>No A-GPS; No WL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ts val="2398"/>
              </a:lnSpc>
              <a:spcBef>
                <a:spcPts val="1500"/>
              </a:spcBef>
              <a:buClr>
                <a:srgbClr val="002b5d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2b5d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2b5d"/>
                </a:solidFill>
                <a:latin typeface="Arial"/>
              </a:rPr>
              <a:t>No S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ts val="2398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2b5d"/>
                </a:solidFill>
                <a:latin typeface="Wingdings"/>
                <a:ea typeface="Wingdings"/>
              </a:rPr>
              <a:t></a:t>
            </a:r>
            <a:r>
              <a:rPr b="0" lang="en-GB" sz="2400" spc="-1" strike="noStrike">
                <a:solidFill>
                  <a:srgbClr val="002b5d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2b5d"/>
                </a:solidFill>
                <a:latin typeface="Arial"/>
              </a:rPr>
              <a:t>No Camera; No memory card sup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398"/>
              </a:lnSpc>
              <a:spcBef>
                <a:spcPts val="1500"/>
              </a:spcBef>
              <a:buClr>
                <a:srgbClr val="002b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2b5d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2b5d"/>
                </a:solidFill>
                <a:latin typeface="Arial"/>
              </a:rPr>
              <a:t>Agreed with and supported from Sales and S&amp;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398"/>
              </a:lnSpc>
              <a:spcBef>
                <a:spcPts val="1500"/>
              </a:spcBef>
              <a:buClr>
                <a:srgbClr val="002b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2b5d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2b5d"/>
                </a:solidFill>
                <a:latin typeface="Arial"/>
              </a:rPr>
              <a:t>Agreed from MP-board on 4.1..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398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304920" y="0"/>
            <a:ext cx="73911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08000" tIns="3600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Arial"/>
              </a:rPr>
              <a:t>Product Status Neo </a:t>
            </a:r>
            <a:br>
              <a:rPr sz="28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”The premium messaging device for successful and demanding professionals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5562720"/>
            <a:ext cx="17496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1600200"/>
            <a:ext cx="2187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iming/Market  Introdu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80880" y="2611440"/>
            <a:ext cx="174960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inanci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80880" y="3581280"/>
            <a:ext cx="17496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rodu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4572000"/>
            <a:ext cx="17496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ccesso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276720" y="2421000"/>
            <a:ext cx="4876560" cy="828360"/>
            <a:chOff x="3276720" y="2421000"/>
            <a:chExt cx="4876560" cy="828360"/>
          </a:xfrm>
        </p:grpSpPr>
        <p:sp>
          <p:nvSpPr>
            <p:cNvPr id="159" name=""/>
            <p:cNvSpPr/>
            <p:nvPr/>
          </p:nvSpPr>
          <p:spPr>
            <a:xfrm>
              <a:off x="3276720" y="2421000"/>
              <a:ext cx="4876560" cy="8283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312720" y="2421000"/>
              <a:ext cx="4825800" cy="82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usiness case positiv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3327480" y="4702320"/>
            <a:ext cx="487656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133720" y="3657600"/>
            <a:ext cx="6523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185920" y="3706920"/>
            <a:ext cx="128520" cy="125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398680" y="3706920"/>
            <a:ext cx="128520" cy="125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611440" y="3706920"/>
            <a:ext cx="128520" cy="125280"/>
          </a:xfrm>
          <a:prstGeom prst="ellipse">
            <a:avLst/>
          </a:prstGeom>
          <a:solidFill>
            <a:srgbClr val="0ac90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133720" y="4648320"/>
            <a:ext cx="6523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185920" y="4697280"/>
            <a:ext cx="128520" cy="125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398680" y="4697280"/>
            <a:ext cx="128520" cy="12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611440" y="4697280"/>
            <a:ext cx="128520" cy="125640"/>
          </a:xfrm>
          <a:prstGeom prst="ellipse">
            <a:avLst/>
          </a:prstGeom>
          <a:solidFill>
            <a:srgbClr val="00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133720" y="5638680"/>
            <a:ext cx="6523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185920" y="5688000"/>
            <a:ext cx="128520" cy="125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398680" y="5688000"/>
            <a:ext cx="128520" cy="125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611440" y="5688000"/>
            <a:ext cx="128520" cy="125280"/>
          </a:xfrm>
          <a:prstGeom prst="ellipse">
            <a:avLst/>
          </a:prstGeom>
          <a:solidFill>
            <a:srgbClr val="00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3276720" y="1447920"/>
            <a:ext cx="4876560" cy="828360"/>
            <a:chOff x="3276720" y="1447920"/>
            <a:chExt cx="4876560" cy="828360"/>
          </a:xfrm>
        </p:grpSpPr>
        <p:sp>
          <p:nvSpPr>
            <p:cNvPr id="175" name=""/>
            <p:cNvSpPr/>
            <p:nvPr/>
          </p:nvSpPr>
          <p:spPr>
            <a:xfrm>
              <a:off x="3276720" y="1447920"/>
              <a:ext cx="4876560" cy="8283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12720" y="1447920"/>
              <a:ext cx="4825800" cy="82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Launch in 9/04 with 100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LC 1,7 Mi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3276720" y="3395520"/>
            <a:ext cx="4876560" cy="828360"/>
            <a:chOff x="3276720" y="3395520"/>
            <a:chExt cx="4876560" cy="828360"/>
          </a:xfrm>
        </p:grpSpPr>
        <p:sp>
          <p:nvSpPr>
            <p:cNvPr id="178" name=""/>
            <p:cNvSpPr/>
            <p:nvPr/>
          </p:nvSpPr>
          <p:spPr>
            <a:xfrm>
              <a:off x="3276720" y="3395520"/>
              <a:ext cx="4876560" cy="8283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312720" y="3395520"/>
              <a:ext cx="4825800" cy="82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Key features: QWERTY-Keyboard, high value design -&gt; Messaging devi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No Camera; No MMC slot; No A-GPS; No WLA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3276720" y="4368960"/>
            <a:ext cx="4876560" cy="828000"/>
            <a:chOff x="3276720" y="4368960"/>
            <a:chExt cx="4876560" cy="828000"/>
          </a:xfrm>
        </p:grpSpPr>
        <p:sp>
          <p:nvSpPr>
            <p:cNvPr id="181" name=""/>
            <p:cNvSpPr/>
            <p:nvPr/>
          </p:nvSpPr>
          <p:spPr>
            <a:xfrm>
              <a:off x="3276720" y="4368960"/>
              <a:ext cx="4876560" cy="828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12720" y="4368960"/>
              <a:ext cx="4825800" cy="82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F Connector in aga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3276720" y="5343480"/>
            <a:ext cx="4876560" cy="828360"/>
            <a:chOff x="3276720" y="5343480"/>
            <a:chExt cx="4876560" cy="828360"/>
          </a:xfrm>
        </p:grpSpPr>
        <p:sp>
          <p:nvSpPr>
            <p:cNvPr id="184" name=""/>
            <p:cNvSpPr/>
            <p:nvPr/>
          </p:nvSpPr>
          <p:spPr>
            <a:xfrm>
              <a:off x="3276720" y="5343480"/>
              <a:ext cx="4876560" cy="8283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312720" y="5343480"/>
              <a:ext cx="4825800" cy="82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3124080" y="1066680"/>
            <a:ext cx="541044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tatus and major changes (regarding last milesto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07520" y="6248520"/>
            <a:ext cx="67608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0000"/>
                </a:solidFill>
                <a:latin typeface="Arial"/>
              </a:rPr>
              <a:t>alway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120760" y="2641680"/>
            <a:ext cx="6526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173320" y="2690640"/>
            <a:ext cx="128520" cy="12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86080" y="2690640"/>
            <a:ext cx="128520" cy="12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98840" y="2690640"/>
            <a:ext cx="128520" cy="125640"/>
          </a:xfrm>
          <a:prstGeom prst="ellipse">
            <a:avLst/>
          </a:prstGeom>
          <a:solidFill>
            <a:srgbClr val="0ac90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20760" y="1727280"/>
            <a:ext cx="6526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173320" y="1776240"/>
            <a:ext cx="128520" cy="12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386080" y="1776240"/>
            <a:ext cx="128520" cy="12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598840" y="1776240"/>
            <a:ext cx="128520" cy="125640"/>
          </a:xfrm>
          <a:prstGeom prst="ellipse">
            <a:avLst/>
          </a:prstGeom>
          <a:solidFill>
            <a:srgbClr val="0ac90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6" name=""/>
          <p:cNvGraphicFramePr/>
          <p:nvPr/>
        </p:nvGraphicFramePr>
        <p:xfrm>
          <a:off x="291960" y="1092240"/>
          <a:ext cx="8115480" cy="57657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91960" y="1092240"/>
                    <a:ext cx="8115480" cy="576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8" name=""/>
          <p:cNvSpPr/>
          <p:nvPr/>
        </p:nvSpPr>
        <p:spPr>
          <a:xfrm flipV="1">
            <a:off x="825480" y="1262160"/>
            <a:ext cx="7162920" cy="4944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04920" y="0"/>
            <a:ext cx="73911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08000" tIns="3600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TA Project Neo</a:t>
            </a:r>
            <a:br>
              <a:rPr sz="28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”The premium messaging device for successful and demanding professionals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010280" y="257040"/>
            <a:ext cx="327240" cy="657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110360" y="317520"/>
            <a:ext cx="130320" cy="1238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110360" y="522360"/>
            <a:ext cx="130320" cy="1220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110360" y="725400"/>
            <a:ext cx="130320" cy="1238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653000" y="3743280"/>
            <a:ext cx="9216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1960" y="977760"/>
            <a:ext cx="1095480" cy="2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ime plann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rot="19488600">
            <a:off x="378000" y="2906280"/>
            <a:ext cx="7396200" cy="15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algn="ctr">
              <a:lnSpc>
                <a:spcPts val="2398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2398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0000"/>
                </a:solidFill>
                <a:latin typeface="Arial"/>
              </a:rPr>
              <a:t>To be updated for NE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2398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650600" y="3200040"/>
            <a:ext cx="3213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60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1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o R&amp;D effort / cost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304920" y="1008000"/>
          <a:ext cx="7696080" cy="55450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1008000"/>
                    <a:ext cx="7696080" cy="554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2T13:52:17Z</dcterms:created>
  <dc:creator>Mues-Hane</dc:creator>
  <dc:description/>
  <dc:language>en-US</dc:language>
  <cp:lastModifiedBy>Jürgen Schmitz</cp:lastModifiedBy>
  <cp:lastPrinted>2002-11-05T09:45:05Z</cp:lastPrinted>
  <dcterms:modified xsi:type="dcterms:W3CDTF">2003-11-06T13:15:32Z</dcterms:modified>
  <cp:revision>534</cp:revision>
  <dc:subject/>
  <dc:title>Template Project Status Review</dc:title>
</cp:coreProperties>
</file>